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DF16-9673-4F53-8494-DF2E47DCE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60B8-FFC4-4A4C-8EAC-164114A64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6833-B81F-4974-8FA5-0375736D2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C9DA-B610-499F-9219-E4A29C137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EAEC-B0B5-4EAA-A759-7AC1110E5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DF94-301E-448F-A657-F93EE0061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2B97-80C9-4878-BFD6-D6ACB721B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60D4-D6DB-4224-BAE2-79A6A8583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ABB9-68C5-47A2-BA3A-185C53BB6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4F57-0559-4528-B03F-544EF34FF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2CA1-F695-4230-B953-38FFB1DFA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1EAF-E9D7-45B1-8D1B-4414DD25B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08523-6A96-4363-88F6-8F693FF969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33"/>
                </a:solidFill>
                <a:latin typeface="Georgia"/>
              </a:rPr>
              <a:t>P</a:t>
            </a:r>
            <a:r>
              <a:rPr b="1" lang="en-US" sz="3800" spc="-1" strike="noStrike">
                <a:solidFill>
                  <a:srgbClr val="333333"/>
                </a:solidFill>
                <a:latin typeface="Georgia"/>
              </a:rPr>
              <a:t>ROBLEM</a:t>
            </a:r>
            <a:r>
              <a:rPr b="1" lang="en-US" sz="4800" spc="-1" strike="noStrike">
                <a:solidFill>
                  <a:srgbClr val="333333"/>
                </a:solidFill>
                <a:latin typeface="Georgia"/>
              </a:rPr>
              <a:t> B</a:t>
            </a:r>
            <a:r>
              <a:rPr b="1" lang="en-US" sz="3800" spc="-1" strike="noStrike">
                <a:solidFill>
                  <a:srgbClr val="333333"/>
                </a:solidFill>
                <a:latin typeface="Georgia"/>
              </a:rPr>
              <a:t>ASED</a:t>
            </a:r>
            <a:r>
              <a:rPr b="1" lang="en-US" sz="4800" spc="-1" strike="noStrike">
                <a:solidFill>
                  <a:srgbClr val="333333"/>
                </a:solidFill>
                <a:latin typeface="Georgia"/>
              </a:rPr>
              <a:t> L</a:t>
            </a:r>
            <a:r>
              <a:rPr b="1" lang="en-US" sz="3800" spc="-1" strike="noStrike">
                <a:solidFill>
                  <a:srgbClr val="333333"/>
                </a:solidFill>
                <a:latin typeface="Georgia"/>
              </a:rPr>
              <a:t>EARNING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3333"/>
                </a:solidFill>
                <a:latin typeface="Georgia"/>
              </a:rPr>
              <a:t>A</a:t>
            </a:r>
            <a:r>
              <a:rPr b="0" lang="en-US" sz="3200" spc="-1" strike="noStrike">
                <a:solidFill>
                  <a:srgbClr val="333333"/>
                </a:solidFill>
                <a:latin typeface="Georgia"/>
              </a:rPr>
              <a:t>.</a:t>
            </a:r>
            <a:r>
              <a:rPr b="0" lang="en-US" sz="2600" spc="-1" strike="noStrike">
                <a:solidFill>
                  <a:srgbClr val="333333"/>
                </a:solidFill>
                <a:latin typeface="Georgia"/>
              </a:rPr>
              <a:t>K</a:t>
            </a:r>
            <a:r>
              <a:rPr b="0" lang="en-US" sz="3200" spc="-1" strike="noStrike">
                <a:solidFill>
                  <a:srgbClr val="333333"/>
                </a:solidFill>
                <a:latin typeface="Georgia"/>
              </a:rPr>
              <a:t>.</a:t>
            </a:r>
            <a:r>
              <a:rPr b="0" lang="en-US" sz="2000" spc="-1" strike="noStrike">
                <a:solidFill>
                  <a:srgbClr val="333333"/>
                </a:solidFill>
                <a:latin typeface="Georgia"/>
              </a:rPr>
              <a:t>A</a:t>
            </a:r>
            <a:r>
              <a:rPr b="0" lang="en-US" sz="3200" spc="-1" strike="noStrike">
                <a:solidFill>
                  <a:srgbClr val="333333"/>
                </a:solidFill>
                <a:latin typeface="Georgia"/>
              </a:rPr>
              <a:t>. PB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3280" y="291960"/>
            <a:ext cx="990144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Georgia"/>
              </a:rPr>
              <a:t>W</a:t>
            </a:r>
            <a:r>
              <a:rPr b="0" lang="en-US" sz="3400" spc="-1" strike="noStrike">
                <a:solidFill>
                  <a:srgbClr val="ffffff"/>
                </a:solidFill>
                <a:latin typeface="Georgia"/>
              </a:rPr>
              <a:t>RITE</a:t>
            </a:r>
            <a:r>
              <a:rPr b="0" lang="en-US" sz="43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Georgia"/>
              </a:rPr>
              <a:t>YOUR</a:t>
            </a:r>
            <a:r>
              <a:rPr b="0" lang="en-US" sz="43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Georgia"/>
              </a:rPr>
              <a:t>PROBLEM</a:t>
            </a:r>
            <a:r>
              <a:rPr b="0" lang="en-US" sz="43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Georgia"/>
              </a:rPr>
              <a:t>STATEMEN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3333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Use the lesson plan template to help organize your pl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333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Your problem statement should be written from the students' perspectiv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333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It should be one or two lines that describe the problem in student language...and one line for a general objective statement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333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The problem statement is a general, concise statement that will drive the instruction and inspire learning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Georgia"/>
              </a:rPr>
              <a:t>Y</a:t>
            </a:r>
            <a:r>
              <a:rPr b="0" lang="en-US" sz="3400" spc="-1" strike="noStrike">
                <a:solidFill>
                  <a:srgbClr val="ffffff"/>
                </a:solidFill>
                <a:latin typeface="Georgia"/>
              </a:rPr>
              <a:t>OUR</a:t>
            </a:r>
            <a:r>
              <a:rPr b="0" lang="en-US" sz="4300" spc="-1" strike="noStrike">
                <a:solidFill>
                  <a:srgbClr val="ffffff"/>
                </a:solidFill>
                <a:latin typeface="Georgia"/>
              </a:rPr>
              <a:t> O</a:t>
            </a:r>
            <a:r>
              <a:rPr b="0" lang="en-US" sz="3400" spc="-1" strike="noStrike">
                <a:solidFill>
                  <a:srgbClr val="ffffff"/>
                </a:solidFill>
                <a:latin typeface="Georgia"/>
              </a:rPr>
              <a:t>BJECTIVES</a:t>
            </a:r>
            <a:r>
              <a:rPr b="0" lang="en-US" sz="43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FOR</a:t>
            </a:r>
            <a:r>
              <a:rPr b="0" lang="en-US" sz="4300" spc="-1" strike="noStrike">
                <a:solidFill>
                  <a:srgbClr val="ffffff"/>
                </a:solidFill>
                <a:latin typeface="Georgia"/>
              </a:rPr>
              <a:t> TODAY! 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33333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Choose a Problem Based Topic for your studen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3333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Write your problem statemen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3333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Write the rubric for your student produc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3333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Create a teacher product to be used as you teach the less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Georgia"/>
              </a:rPr>
              <a:t>W</a:t>
            </a:r>
            <a:r>
              <a:rPr b="0" lang="en-US" sz="3400" spc="-1" strike="noStrike">
                <a:solidFill>
                  <a:srgbClr val="ffffff"/>
                </a:solidFill>
                <a:latin typeface="Georgia"/>
              </a:rPr>
              <a:t>HAT</a:t>
            </a:r>
            <a:r>
              <a:rPr b="0" lang="en-US" sz="43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IS</a:t>
            </a:r>
            <a:r>
              <a:rPr b="0" lang="en-US" sz="4300" spc="-1" strike="noStrike">
                <a:solidFill>
                  <a:srgbClr val="ffffff"/>
                </a:solidFill>
                <a:latin typeface="Georgia"/>
              </a:rPr>
              <a:t> PBL?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3333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There are MANY definitions!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The Original Definition (Mayb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333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PBL is both a curriculum and a process. The curriculum consists of carefully selected and designed problems that demand from the learner acquisition of critical knowledge, problem solving proficiency, self-directed learning strategies and team participation skills. The process replicates the commonly used systemic approach to resolving problems or meeting challenges that are encountered in life and career (Barrows &amp;Kelson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Georgia"/>
              </a:rPr>
              <a:t>W</a:t>
            </a:r>
            <a:r>
              <a:rPr b="0" lang="en-US" sz="3400" spc="-1" strike="noStrike">
                <a:solidFill>
                  <a:srgbClr val="ffffff"/>
                </a:solidFill>
                <a:latin typeface="Georgia"/>
              </a:rPr>
              <a:t>HAT</a:t>
            </a:r>
            <a:r>
              <a:rPr b="0" lang="en-US" sz="43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IS</a:t>
            </a:r>
            <a:r>
              <a:rPr b="0" lang="en-US" sz="4300" spc="-1" strike="noStrike">
                <a:solidFill>
                  <a:srgbClr val="ffffff"/>
                </a:solidFill>
                <a:latin typeface="Georgia"/>
              </a:rPr>
              <a:t> PBL?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The definition we will accept for THIS COURSE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333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PBL is an instructional method that challenges students to "learn to learn," working cooperatively in groups to seek solutions to real world problems (Duch, 1995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Georgia"/>
              </a:rPr>
              <a:t>S</a:t>
            </a:r>
            <a:r>
              <a:rPr b="0" lang="en-US" sz="3400" spc="-1" strike="noStrike">
                <a:solidFill>
                  <a:srgbClr val="ffffff"/>
                </a:solidFill>
                <a:latin typeface="Georgia"/>
              </a:rPr>
              <a:t>TRATEGY</a:t>
            </a:r>
            <a:r>
              <a:rPr b="0" lang="en-US" sz="43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Georgia"/>
              </a:rPr>
              <a:t>COMPARIS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Curriculum as Prescrip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333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Teacher Center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333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Linear and rationa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333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Part to who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333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Teaching as transmit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333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Learning as receiv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333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Structured environmen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Curriculum as Experienc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333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Student Center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333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Coherent and relevan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333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Whole to par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333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Teaching as facilita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333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Learning as construc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333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Flexible environmen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(Samford University, 2007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Georgia"/>
              </a:rPr>
              <a:t>P</a:t>
            </a:r>
            <a:r>
              <a:rPr b="0" lang="en-US" sz="3400" spc="-1" strike="noStrike">
                <a:solidFill>
                  <a:srgbClr val="ffffff"/>
                </a:solidFill>
                <a:latin typeface="Georgia"/>
              </a:rPr>
              <a:t>ARADIGM</a:t>
            </a:r>
            <a:r>
              <a:rPr b="0" lang="en-US" sz="4300" spc="-1" strike="noStrike">
                <a:solidFill>
                  <a:srgbClr val="ffffff"/>
                </a:solidFill>
                <a:latin typeface="Georgia"/>
              </a:rPr>
              <a:t> S</a:t>
            </a:r>
            <a:r>
              <a:rPr b="0" lang="en-US" sz="3400" spc="-1" strike="noStrike">
                <a:solidFill>
                  <a:srgbClr val="ffffff"/>
                </a:solidFill>
                <a:latin typeface="Georgia"/>
              </a:rPr>
              <a:t>HIF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The hardest part for educators is to CHANGE THE THINKING!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In most lessons, the role of the educator is to take a STANDARD and devise a lesson around it. 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The single GOAL is to help the student master the STANDARD!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Georgia"/>
              </a:rPr>
              <a:t>P</a:t>
            </a:r>
            <a:r>
              <a:rPr b="0" lang="en-US" sz="3400" spc="-1" strike="noStrike">
                <a:solidFill>
                  <a:srgbClr val="ffffff"/>
                </a:solidFill>
                <a:latin typeface="Georgia"/>
              </a:rPr>
              <a:t>ARADIGM</a:t>
            </a:r>
            <a:r>
              <a:rPr b="0" lang="en-US" sz="4300" spc="-1" strike="noStrike">
                <a:solidFill>
                  <a:srgbClr val="ffffff"/>
                </a:solidFill>
                <a:latin typeface="Georgia"/>
              </a:rPr>
              <a:t> S</a:t>
            </a:r>
            <a:r>
              <a:rPr b="0" lang="en-US" sz="3400" spc="-1" strike="noStrike">
                <a:solidFill>
                  <a:srgbClr val="ffffff"/>
                </a:solidFill>
                <a:latin typeface="Georgia"/>
              </a:rPr>
              <a:t>HIF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With PBL the teacher mus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333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START WITH THE PROBLEM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333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BUILD A LESSON AROUND THE PROBLEM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333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ALLOW STUDENTS TO OWN THE PROCESS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333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ALLOW STUDENTS TO CHOOSE THE TECHNOLOGY WITH WHICH THEY WILL PRESENT THEIR SOLU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333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NOTE THE "MANY" STANDARDS THAT ARE ADDRESSED  DURING THE LESS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Georgia"/>
              </a:rPr>
              <a:t>P</a:t>
            </a:r>
            <a:r>
              <a:rPr b="0" lang="en-US" sz="3400" spc="-1" strike="noStrike">
                <a:solidFill>
                  <a:srgbClr val="ffffff"/>
                </a:solidFill>
                <a:latin typeface="Georgia"/>
              </a:rPr>
              <a:t>ARADIGM</a:t>
            </a:r>
            <a:r>
              <a:rPr b="0" lang="en-US" sz="4300" spc="-1" strike="noStrike">
                <a:solidFill>
                  <a:srgbClr val="ffffff"/>
                </a:solidFill>
                <a:latin typeface="Georgia"/>
              </a:rPr>
              <a:t> S</a:t>
            </a:r>
            <a:r>
              <a:rPr b="0" lang="en-US" sz="3400" spc="-1" strike="noStrike">
                <a:solidFill>
                  <a:srgbClr val="ffffff"/>
                </a:solidFill>
                <a:latin typeface="Georgia"/>
              </a:rPr>
              <a:t>HIF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0320" y="1471680"/>
            <a:ext cx="96598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With PBL the teacher mus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333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The MAIN GOAL is for students to creatively and collaboratively SOLVE (or attempt to solve) A PROBLEM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33333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The INDIRECT GOALS are for students to MASTER MULTIPLE STANDARDS and SHOW THAT MASTERY through the process and presentation of their solution!!!!!!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" y="-125640"/>
            <a:ext cx="9651960" cy="8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eorgia"/>
              </a:rPr>
              <a:t>STUDENT</a:t>
            </a:r>
            <a:r>
              <a:rPr b="0" lang="en-US" sz="43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Georgia"/>
              </a:rPr>
              <a:t>PRODUCT</a:t>
            </a:r>
            <a:r>
              <a:rPr b="0" lang="en-US" sz="43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Georgia"/>
              </a:rPr>
              <a:t>EXAMPLES</a:t>
            </a:r>
            <a:r>
              <a:rPr b="0" lang="en-US" sz="4300" spc="-1" strike="noStrike">
                <a:solidFill>
                  <a:srgbClr val="ffffff"/>
                </a:solidFill>
                <a:latin typeface="Georgia"/>
              </a:rPr>
              <a:t> -C</a:t>
            </a:r>
            <a:r>
              <a:rPr b="0" lang="en-US" sz="3400" spc="-1" strike="noStrike">
                <a:solidFill>
                  <a:srgbClr val="ffffff"/>
                </a:solidFill>
                <a:latin typeface="Georgia"/>
              </a:rPr>
              <a:t>AN</a:t>
            </a:r>
            <a:r>
              <a:rPr b="0" lang="en-US" sz="43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Georgia"/>
              </a:rPr>
              <a:t>YOU</a:t>
            </a:r>
            <a:r>
              <a:rPr b="0" lang="en-US" sz="43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Georgia"/>
              </a:rPr>
              <a:t>IDENTIFY</a:t>
            </a:r>
            <a:r>
              <a:rPr b="0" lang="en-US" sz="43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Georgia"/>
              </a:rPr>
              <a:t>THE</a:t>
            </a:r>
            <a:r>
              <a:rPr b="0" lang="en-US" sz="43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Georgia"/>
              </a:rPr>
              <a:t>PROBLEM</a:t>
            </a:r>
            <a:r>
              <a:rPr b="0" lang="en-US" sz="43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Georgia"/>
              </a:rPr>
              <a:t>STATEMENT</a:t>
            </a:r>
            <a:r>
              <a:rPr b="0" lang="en-US" sz="4300" spc="-1" strike="noStrike">
                <a:solidFill>
                  <a:srgbClr val="ffffff"/>
                </a:solidFill>
                <a:latin typeface="Georgia"/>
              </a:rPr>
              <a:t>?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Precious is so Precious! (An old example of PBL at the 5th grade level...this is not a NEW concept!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To Tattle or Not to Tattle...That is the Question. (An example of PBL at the Pre-school or Kindergarten level...PBL allows for age appropriate problem solving!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**Show Example List HERE!(PBL_IdeasTH.doc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33280" y="291960"/>
            <a:ext cx="9901440" cy="93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eorgia"/>
              </a:rPr>
              <a:t>IT BEGINS WITH A GREAT PROBLEM!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IT SHOULD ADDRESS A NUMBER OF STANDARD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WHAT IS A REAL LIFE PROBLEM THAT MATTERS TO YOUR STUDENT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WHAT IS AN ISSUE, CHALLENGE, OR SCENARIO YOU CAN PRESENT YOUR STUDENT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33"/>
                </a:solidFill>
                <a:latin typeface="Georgia"/>
              </a:rPr>
              <a:t>****CHOOSE A PROBLEM THAT YOUR STUDENTS FACE AND WRITE A PROBLEM STATEMENT. 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